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6.gif" ContentType="image/gif"/>
  <Override PartName="/ppt/media/image9.wmf" ContentType="image/x-wmf"/>
  <Override PartName="/ppt/media/image11.gif" ContentType="image/gi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D46E-B157-4A32-A6FF-F37822491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D6DD-A7BE-4B9D-B74D-D41C1DE9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CBA5-D570-4F39-A629-BDAB9789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CB95-D88B-412D-A358-DA1605933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E69C-EFF7-4EC5-83EA-A4E7F69B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5556-1E41-447B-964D-71424C7F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8756-DB5A-45B2-80AB-517F1446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61B9-2015-462B-BAD6-F2478A07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55B1-40C3-4E39-AEDA-6E049B0B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F187-B0C4-4C07-8163-78F6B5AB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6325-0B67-4357-86A4-D4A88E7C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0D5E-BEA6-496F-9A43-2E8F5E4D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1574-4855-463F-9193-751A0212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3B0A-919A-4F33-89D9-BA6DBF7C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B99F-7490-4C91-A60B-977262D9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0979-42F3-42FD-A0FD-092F15ED7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7113-55E8-4A09-A84A-E97E0A8CA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8151-AA53-4B3D-9A0A-B25CE2D1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F5E4-D0FC-404C-BCEE-483ED8D6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98E8-3ABE-4FE7-8C93-E7C0F793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B148-8949-4DC9-985B-4A64F58B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AA09-84E7-41DB-9CF1-F5C5A48E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5C1A-3FD0-4F56-A48E-D57DD083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400D-AB8E-4BFD-96BB-E17F13DF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A152-7294-469B-9057-43283243E23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0F52-4BE3-4E88-8123-C3E21B23770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4500720" y="5643720"/>
            <a:ext cx="41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оржиева Г.Ю., учитель информати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ОУ «Барагханская СОШ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Что вы понимаете под словом «МОДЕЛЬ»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AG00004_"/>
          <p:cNvPicPr/>
          <p:nvPr/>
        </p:nvPicPr>
        <p:blipFill>
          <a:blip r:embed="rId1"/>
          <a:stretch/>
        </p:blipFill>
        <p:spPr>
          <a:xfrm>
            <a:off x="4932360" y="2565360"/>
            <a:ext cx="2376360" cy="2292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AG00052_"/>
          <p:cNvPicPr/>
          <p:nvPr/>
        </p:nvPicPr>
        <p:blipFill>
          <a:blip r:embed="rId2"/>
          <a:stretch/>
        </p:blipFill>
        <p:spPr>
          <a:xfrm>
            <a:off x="1187280" y="2565360"/>
            <a:ext cx="2880000" cy="1800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J0172067"/>
          <p:cNvPicPr/>
          <p:nvPr/>
        </p:nvPicPr>
        <p:blipFill>
          <a:blip r:embed="rId3"/>
          <a:stretch/>
        </p:blipFill>
        <p:spPr>
          <a:xfrm>
            <a:off x="755640" y="4581360"/>
            <a:ext cx="489744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и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Узнать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еделение понятия «модель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ие бывают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моделирова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цель, объект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Научитьс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различать модел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упрощенное подобие реального объект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дель отражает лишь некоторые свойства объекта, существенные для достижения цели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4" descr="BL00122_"/>
          <p:cNvPicPr/>
          <p:nvPr/>
        </p:nvPicPr>
        <p:blipFill>
          <a:blip r:embed="rId1"/>
          <a:stretch/>
        </p:blipFill>
        <p:spPr>
          <a:xfrm>
            <a:off x="5651640" y="4292640"/>
            <a:ext cx="2563560" cy="2236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j0335112"/>
          <p:cNvPicPr/>
          <p:nvPr/>
        </p:nvPicPr>
        <p:blipFill>
          <a:blip r:embed="rId2"/>
          <a:stretch/>
        </p:blipFill>
        <p:spPr>
          <a:xfrm>
            <a:off x="971640" y="4581360"/>
            <a:ext cx="1650960" cy="16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ятельность человека по созданию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4" descr="AG00011_"/>
          <p:cNvPicPr/>
          <p:nvPr/>
        </p:nvPicPr>
        <p:blipFill>
          <a:blip r:embed="rId1"/>
          <a:stretch/>
        </p:blipFill>
        <p:spPr>
          <a:xfrm>
            <a:off x="611280" y="3716280"/>
            <a:ext cx="1912680" cy="2160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BD00146_"/>
          <p:cNvPicPr/>
          <p:nvPr/>
        </p:nvPicPr>
        <p:blipFill>
          <a:blip r:embed="rId2"/>
          <a:stretch/>
        </p:blipFill>
        <p:spPr>
          <a:xfrm>
            <a:off x="3924360" y="3141720"/>
            <a:ext cx="1817640" cy="179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H00669_"/>
          <p:cNvPicPr/>
          <p:nvPr/>
        </p:nvPicPr>
        <p:blipFill>
          <a:blip r:embed="rId3"/>
          <a:stretch/>
        </p:blipFill>
        <p:spPr>
          <a:xfrm>
            <a:off x="6443640" y="4149720"/>
            <a:ext cx="18813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войства моделей зависят от цели моделиров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3733920" cy="12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Натурные модел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физическое подобие объек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60640" y="2362320"/>
            <a:ext cx="37702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Информационные модели –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писание объекта в определенной фор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378936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риальный объек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556000" y="4221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Явление природ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924360" y="443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цесс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 flipH="1">
            <a:off x="2700360" y="3357720"/>
            <a:ext cx="2519280" cy="647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H="1">
            <a:off x="3634920" y="3357720"/>
            <a:ext cx="1513080" cy="93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 flipH="1">
            <a:off x="4858920" y="3429000"/>
            <a:ext cx="289080" cy="1079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13" descr="NA01682_"/>
          <p:cNvPicPr/>
          <p:nvPr/>
        </p:nvPicPr>
        <p:blipFill>
          <a:blip r:embed="rId1"/>
          <a:stretch/>
        </p:blipFill>
        <p:spPr>
          <a:xfrm>
            <a:off x="1547640" y="4869000"/>
            <a:ext cx="1511640" cy="1265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AN00790_"/>
          <p:cNvPicPr/>
          <p:nvPr/>
        </p:nvPicPr>
        <p:blipFill>
          <a:blip r:embed="rId2"/>
          <a:stretch/>
        </p:blipFill>
        <p:spPr>
          <a:xfrm>
            <a:off x="3635280" y="4797360"/>
            <a:ext cx="1579680" cy="1646280"/>
          </a:xfrm>
          <a:prstGeom prst="rect">
            <a:avLst/>
          </a:prstGeom>
          <a:ln w="0">
            <a:noFill/>
          </a:ln>
        </p:spPr>
      </p:pic>
      <p:sp>
        <p:nvSpPr>
          <p:cNvPr id="123" name="Line 15"/>
          <p:cNvSpPr/>
          <p:nvPr/>
        </p:nvSpPr>
        <p:spPr>
          <a:xfrm>
            <a:off x="6227640" y="3860640"/>
            <a:ext cx="0" cy="2232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Line 16"/>
          <p:cNvSpPr/>
          <p:nvPr/>
        </p:nvSpPr>
        <p:spPr>
          <a:xfrm>
            <a:off x="6227640" y="407664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6804000" y="393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ербаль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6227640" y="4724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6804000" y="458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раф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6227640" y="5372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6804000" y="5229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аблич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Line 22"/>
          <p:cNvSpPr/>
          <p:nvPr/>
        </p:nvSpPr>
        <p:spPr>
          <a:xfrm>
            <a:off x="6227640" y="609300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6804000" y="5805360"/>
            <a:ext cx="201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мат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=cos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24" descr="AG00174_"/>
          <p:cNvPicPr/>
          <p:nvPr/>
        </p:nvPicPr>
        <p:blipFill>
          <a:blip r:embed="rId3"/>
          <a:stretch/>
        </p:blipFill>
        <p:spPr>
          <a:xfrm>
            <a:off x="755640" y="436572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математические формул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уравнения химических реакций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манекен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компьютерная пр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) программа телевидения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) авиамодель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ж) оглавление книги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) игрушечные час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) эталон кил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) блок-схема алгоритма. (2 балл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619280" y="112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042920" y="90792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пределите, какие из следующих моделей являются информационными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48720" y="514080"/>
            <a:ext cx="7990200" cy="150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50403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декорационного оформления театральной постановк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книги или журнал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лобу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ографический атла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одель (макет) строения молекулы воды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Уравнение химической реакции, например,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2 + 2NaOH = Na2CO3 + H2O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неалогическое (родословное) дерево семьи Пушкиных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скелета человек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Формула определения площади квадрата со стороной h: S = h2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асписание движения поезд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Игрушечная модель паровоз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рафик зависимости высоты тела, брошенного под углом к горизонту, от времени полет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главление книг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508720" y="2361960"/>
            <a:ext cx="34560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представления (репрезентации) материальных предме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объяснения известных фак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построения гипотез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) получения новых знаний об исследуемых объектах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) прогнозирования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) управления. (3 балл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39640" y="333360"/>
            <a:ext cx="83534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аны следующие модел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берите из предложенных моделей или придумайте сами примеры, когда модели объектов реальной действительности используются для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9:27:51Z</dcterms:created>
  <dc:creator>Пользователь</dc:creator>
  <dc:description/>
  <dc:language>en-US</dc:language>
  <cp:lastModifiedBy>Your User Name</cp:lastModifiedBy>
  <dcterms:modified xsi:type="dcterms:W3CDTF">2010-05-26T07:10:47Z</dcterms:modified>
  <cp:revision>4</cp:revision>
  <dc:subject/>
  <dc:title>Моделирование </dc:title>
</cp:coreProperties>
</file>